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884-FFCD-416E-B227-9123D4B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900-E1C9-4077-AA70-0D5398B5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A56-E10D-4007-A921-B8A6B3D3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B53-9139-43B5-ADEE-12E07D86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8C03-A97A-44E9-840D-49656E98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064F-B23F-44E8-8552-BA19C08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EDDE-44A8-44E8-8CA3-F079523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2A42-BEF4-4E2B-979B-B70A3DB7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F044-B31B-4F35-AAFD-2F239D6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9E4-A30C-4255-A64A-348BE5D5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14F6-8E4C-4969-AECE-9424B2E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68E-14B6-4294-A9A1-60D30DF9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22B6-E1E9-4A58-909B-0AB1B36C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53E-B1C4-45E5-B33E-CA61A64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445D-5B0B-42D0-91E4-E471465F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663-53A5-4E85-9599-208F9F7B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FB83-A5B9-4968-B788-81CF61E7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AE6-7E3B-4B7D-A3DF-B253B11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245-822A-4CC7-B41D-FD6EF84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96E-F366-4E0D-BFD3-37AF582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BAF-2B65-4B37-BDD0-ADDBB431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31B-6797-40CF-88FD-066A5E1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8F0-E654-40E0-B170-EBDC256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E1F-2114-4196-AEE5-DCEC0B1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EA1-C4A6-4ED8-B8AD-5822A9B14A3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328-7A61-48A3-BC6C-9A1540F0B48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(T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333440" y="4365720"/>
            <a:ext cx="295272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H="1">
            <a:off x="4429080" y="5111640"/>
            <a:ext cx="12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143240" y="442908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8640" y="785520"/>
            <a:ext cx="8685360" cy="514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l nombre del sustrato o del producto, se le agrega la termin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Por ejemplo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sacarasa, ureasa, amilasa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la reacción que catalizan, por ej.: 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oxidoreductasa, deshidrogenasa, descarboxilasa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tras tienen nombres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arbitrarios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,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tialina salival, pepsina del jugo gástrico, tripsina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da enzima tiene un nombre y un numero asignado por la </a:t>
            </a:r>
            <a:r>
              <a:rPr b="1" i="1" lang="es-AR" sz="2400" spc="-1" strike="noStrike">
                <a:solidFill>
                  <a:srgbClr val="e46c0a"/>
                </a:solidFill>
                <a:latin typeface="Calibri"/>
              </a:rPr>
              <a:t>Unión Internacional de Bioquímica y Biología Mole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Lactato deshidrogen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EC 1.1.1.27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4320"/>
            <a:ext cx="8858160" cy="63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omic Sans MS"/>
              </a:rPr>
              <a:t>¿Cómo se denomina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395280" y="5859360"/>
            <a:ext cx="7951680" cy="1371600"/>
            <a:chOff x="395280" y="5859360"/>
            <a:chExt cx="7951680" cy="1371600"/>
          </a:xfrm>
        </p:grpSpPr>
        <p:sp>
          <p:nvSpPr>
            <p:cNvPr id="141" name="Text Box 24"/>
            <p:cNvSpPr/>
            <p:nvPr/>
          </p:nvSpPr>
          <p:spPr>
            <a:xfrm>
              <a:off x="785880" y="6215040"/>
              <a:ext cx="7561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Calibri"/>
                </a:rPr>
                <a:t>Clase    -    subclase    -    subsubclase    -     nº de 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5"/>
            <p:cNvSpPr/>
            <p:nvPr/>
          </p:nvSpPr>
          <p:spPr>
            <a:xfrm>
              <a:off x="395280" y="585936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642960" y="1285920"/>
          <a:ext cx="7872480" cy="5005440"/>
        </p:xfrm>
        <a:graphic>
          <a:graphicData uri="http://schemas.openxmlformats.org/drawingml/2006/table">
            <a:tbl>
              <a:tblPr/>
              <a:tblGrid>
                <a:gridCol w="2624040"/>
                <a:gridCol w="2624040"/>
                <a:gridCol w="2624400"/>
              </a:tblGrid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E DE  ENZ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CCIÓN QUE CATALI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Oxidorreduct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ciones de óxido-re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tato deshidroge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98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.  Transfer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transferencia de un grupo de átomos, como amina, carboxilo, carbonilo, metilo, desde un sustrato considerado donante, a otro compuesto acep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inotranfera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oqui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.  Hidrol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uptura de enlaces C-O, C-N, C-S y O-P por adición de 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atasas, disacarida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.  Li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uptura de uniones C-C, C-S y C-N de la molécula de sustrato, por un proceso distinto al de hidró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.  Isomer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interconversión de isómeros ópticos, geométricos o de pos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otriosa isomerasa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428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.  Ligasas o sintet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formación de enlaces entre C y O, S y N acoplada a la hidrólisis de fosfatos de alta energ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ruvato carboxila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15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143160" y="2214720"/>
            <a:ext cx="6002280" cy="874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152880" y="3571920"/>
            <a:ext cx="5983200" cy="100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571840" y="5357880"/>
            <a:ext cx="6584760" cy="857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468360" y="1928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4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287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5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744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6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4360" y="236052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73120" y="3922560"/>
            <a:ext cx="237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701640" y="550080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428760" y="3571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717480" y="93348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143160" y="874800"/>
            <a:ext cx="600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928800"/>
            <a:ext cx="8229600" cy="51847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TERCIARIA Y CUATERN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DE UNION AL SUSTRATO: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ITIO A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iones no Covalent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Puente de hidrógeno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Hidrofób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Electrost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ITAN DE FACTORES NO ENZIMATICOS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inorgá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Met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y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orgán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oenzim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PECIFICIDAD DE SUSTRATO. Estereoespecificidad y especificidad geomét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REGULABLES: su actividad, su degradación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íntesis de la proteína-enz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Características de las Enzim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Reacción catalizada por una Enz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72" name="AutoShape 9"/>
          <p:cNvCxnSpPr/>
          <p:nvPr/>
        </p:nvCxnSpPr>
        <p:spPr>
          <a:xfrm>
            <a:off x="2999880" y="4500360"/>
            <a:ext cx="7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Text Box 14"/>
          <p:cNvSpPr/>
          <p:nvPr/>
        </p:nvSpPr>
        <p:spPr>
          <a:xfrm>
            <a:off x="5219640" y="5143680"/>
            <a:ext cx="149544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858000" y="5157720"/>
            <a:ext cx="180036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oup 27" descr=""/>
          <p:cNvPicPr/>
          <p:nvPr/>
        </p:nvPicPr>
        <p:blipFill>
          <a:blip r:embed="rId2"/>
          <a:stretch/>
        </p:blipFill>
        <p:spPr>
          <a:xfrm>
            <a:off x="-128520" y="4211640"/>
            <a:ext cx="3414600" cy="1366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5357880" y="4365720"/>
            <a:ext cx="2922480" cy="503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      +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8"/>
          <p:cNvGrpSpPr/>
          <p:nvPr/>
        </p:nvGrpSpPr>
        <p:grpSpPr>
          <a:xfrm>
            <a:off x="3224160" y="4394160"/>
            <a:ext cx="1919160" cy="1677600"/>
            <a:chOff x="3224160" y="4394160"/>
            <a:chExt cx="1919160" cy="1677600"/>
          </a:xfrm>
        </p:grpSpPr>
        <p:sp>
          <p:nvSpPr>
            <p:cNvPr id="179" name="Text Box 13"/>
            <p:cNvSpPr/>
            <p:nvPr/>
          </p:nvSpPr>
          <p:spPr>
            <a:xfrm>
              <a:off x="3224160" y="5097960"/>
              <a:ext cx="191916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3765600" y="4394160"/>
              <a:ext cx="944640" cy="48960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19" descr="uno"/>
          <p:cNvPicPr/>
          <p:nvPr/>
        </p:nvPicPr>
        <p:blipFill>
          <a:blip r:embed="rId3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uno"/>
          <p:cNvPicPr/>
          <p:nvPr/>
        </p:nvPicPr>
        <p:blipFill>
          <a:blip r:embed="rId4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 flipV="1">
            <a:off x="781200" y="3141360"/>
            <a:ext cx="45720" cy="107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H="1">
            <a:off x="335448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897200" y="27860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j: 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9640" y="4133880"/>
            <a:ext cx="482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ESPECIFICIDAD RE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763640" y="54291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j: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5643720" y="5286240"/>
            <a:ext cx="3071520" cy="144252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Glucosa, Fructosa, Man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ESPECIFICIDAD </a:t>
            </a: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708440" y="557208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0" y="1257480"/>
            <a:ext cx="4535640" cy="3528720"/>
            <a:chOff x="0" y="1257480"/>
            <a:chExt cx="4535640" cy="3528720"/>
          </a:xfrm>
        </p:grpSpPr>
        <p:pic>
          <p:nvPicPr>
            <p:cNvPr id="204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0" y="125748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9"/>
            <p:cNvSpPr/>
            <p:nvPr/>
          </p:nvSpPr>
          <p:spPr>
            <a:xfrm>
              <a:off x="144720" y="154620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500720" y="3357720"/>
            <a:ext cx="4462200" cy="3166920"/>
          </a:xfrm>
          <a:prstGeom prst="rect">
            <a:avLst/>
          </a:prstGeom>
          <a:ln w="0">
            <a:noFill/>
          </a:ln>
        </p:spPr>
      </p:pic>
      <p:sp>
        <p:nvSpPr>
          <p:cNvPr id="207" name="Oval 12"/>
          <p:cNvSpPr/>
          <p:nvPr/>
        </p:nvSpPr>
        <p:spPr>
          <a:xfrm>
            <a:off x="2500200" y="5013360"/>
            <a:ext cx="187344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uc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7"/>
          <p:cNvGrpSpPr/>
          <p:nvPr/>
        </p:nvGrpSpPr>
        <p:grpSpPr>
          <a:xfrm>
            <a:off x="4000680" y="500040"/>
            <a:ext cx="4752360" cy="1154160"/>
            <a:chOff x="4000680" y="500040"/>
            <a:chExt cx="4752360" cy="1154160"/>
          </a:xfrm>
        </p:grpSpPr>
        <p:sp>
          <p:nvSpPr>
            <p:cNvPr id="209" name="Text Box 13"/>
            <p:cNvSpPr/>
            <p:nvPr/>
          </p:nvSpPr>
          <p:spPr>
            <a:xfrm>
              <a:off x="4000680" y="50004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        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5572440" y="716040"/>
              <a:ext cx="68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5282640" y="1076400"/>
              <a:ext cx="529200" cy="504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6264360" y="1149120"/>
              <a:ext cx="528840" cy="505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5810040" y="78876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4"/>
          <p:cNvGrpSpPr/>
          <p:nvPr/>
        </p:nvGrpSpPr>
        <p:grpSpPr>
          <a:xfrm>
            <a:off x="2643120" y="569880"/>
            <a:ext cx="1295640" cy="287280"/>
            <a:chOff x="2643120" y="569880"/>
            <a:chExt cx="1295640" cy="287280"/>
          </a:xfrm>
        </p:grpSpPr>
        <p:sp>
          <p:nvSpPr>
            <p:cNvPr id="215" name="Oval 18"/>
            <p:cNvSpPr/>
            <p:nvPr/>
          </p:nvSpPr>
          <p:spPr>
            <a:xfrm>
              <a:off x="2643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2859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3075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3291120" y="56988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2"/>
            <p:cNvSpPr/>
            <p:nvPr/>
          </p:nvSpPr>
          <p:spPr>
            <a:xfrm>
              <a:off x="350676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372276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6"/>
          <p:cNvGrpSpPr/>
          <p:nvPr/>
        </p:nvGrpSpPr>
        <p:grpSpPr>
          <a:xfrm>
            <a:off x="7129440" y="928800"/>
            <a:ext cx="1728360" cy="459720"/>
            <a:chOff x="7129440" y="928800"/>
            <a:chExt cx="1728360" cy="459720"/>
          </a:xfrm>
        </p:grpSpPr>
        <p:sp>
          <p:nvSpPr>
            <p:cNvPr id="222" name="Text Box 34"/>
            <p:cNvSpPr/>
            <p:nvPr/>
          </p:nvSpPr>
          <p:spPr>
            <a:xfrm>
              <a:off x="8353080" y="9288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5"/>
            <p:cNvGrpSpPr/>
            <p:nvPr/>
          </p:nvGrpSpPr>
          <p:grpSpPr>
            <a:xfrm>
              <a:off x="7129440" y="1025640"/>
              <a:ext cx="1079280" cy="287280"/>
              <a:chOff x="7129440" y="1025640"/>
              <a:chExt cx="1079280" cy="287280"/>
            </a:xfrm>
          </p:grpSpPr>
          <p:sp>
            <p:nvSpPr>
              <p:cNvPr id="224" name="Oval 26"/>
              <p:cNvSpPr/>
              <p:nvPr/>
            </p:nvSpPr>
            <p:spPr>
              <a:xfrm>
                <a:off x="712944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7"/>
              <p:cNvSpPr/>
              <p:nvPr/>
            </p:nvSpPr>
            <p:spPr>
              <a:xfrm>
                <a:off x="7345440" y="102564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8"/>
              <p:cNvSpPr/>
              <p:nvPr/>
            </p:nvSpPr>
            <p:spPr>
              <a:xfrm>
                <a:off x="756108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9"/>
              <p:cNvSpPr/>
              <p:nvPr/>
            </p:nvSpPr>
            <p:spPr>
              <a:xfrm>
                <a:off x="777708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30"/>
              <p:cNvSpPr/>
              <p:nvPr/>
            </p:nvSpPr>
            <p:spPr>
              <a:xfrm>
                <a:off x="7993080" y="102564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Oval 31"/>
            <p:cNvSpPr/>
            <p:nvPr/>
          </p:nvSpPr>
          <p:spPr>
            <a:xfrm>
              <a:off x="8208720" y="102564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8569080" y="95400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31 CuadroTexto"/>
          <p:cNvSpPr/>
          <p:nvPr/>
        </p:nvSpPr>
        <p:spPr>
          <a:xfrm>
            <a:off x="5223600" y="28584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Gluc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7"/>
          <p:cNvSpPr/>
          <p:nvPr/>
        </p:nvSpPr>
        <p:spPr>
          <a:xfrm>
            <a:off x="928800" y="3786120"/>
            <a:ext cx="1728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71920" y="3714840"/>
            <a:ext cx="2232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lá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143760" y="3643200"/>
            <a:ext cx="2817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PROTE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e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428760" y="27147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643200" y="264312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46c0a"/>
                </a:solidFill>
                <a:latin typeface="Calibri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6429240" y="257184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3214800" y="264312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929200" y="264312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4 CuadroTexto"/>
          <p:cNvSpPr/>
          <p:nvPr/>
        </p:nvSpPr>
        <p:spPr>
          <a:xfrm>
            <a:off x="1667880" y="642960"/>
            <a:ext cx="58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COMPONENTES DE UNA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5 CuadroTexto"/>
          <p:cNvSpPr/>
          <p:nvPr/>
        </p:nvSpPr>
        <p:spPr>
          <a:xfrm>
            <a:off x="6652080" y="16430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030a0"/>
                </a:solidFill>
                <a:latin typeface="Arial"/>
              </a:rPr>
              <a:t>CO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030a0"/>
                </a:solidFill>
                <a:latin typeface="Arial"/>
              </a:rPr>
              <a:t>ENZ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93" name="13 Rectángulo"/>
          <p:cNvSpPr/>
          <p:nvPr/>
        </p:nvSpPr>
        <p:spPr>
          <a:xfrm>
            <a:off x="1285920" y="3143160"/>
            <a:ext cx="4572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2 CuadroTexto"/>
          <p:cNvSpPr/>
          <p:nvPr/>
        </p:nvSpPr>
        <p:spPr>
          <a:xfrm>
            <a:off x="2519280" y="2928960"/>
            <a:ext cx="9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Un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3 CuadroTexto"/>
          <p:cNvSpPr/>
          <p:nvPr/>
        </p:nvSpPr>
        <p:spPr>
          <a:xfrm>
            <a:off x="2291760" y="3714840"/>
            <a:ext cx="152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Un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(cova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508680" y="7142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030a0"/>
                </a:solidFill>
                <a:latin typeface="Arial"/>
              </a:rPr>
              <a:t>COFA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030a0"/>
                </a:solidFill>
                <a:latin typeface="Arial"/>
              </a:rPr>
              <a:t>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 CuadroTexto"/>
          <p:cNvSpPr/>
          <p:nvPr/>
        </p:nvSpPr>
        <p:spPr>
          <a:xfrm>
            <a:off x="3511440" y="16430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Molécula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No Prote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6 CuadroTexto"/>
          <p:cNvSpPr/>
          <p:nvPr/>
        </p:nvSpPr>
        <p:spPr>
          <a:xfrm>
            <a:off x="3293280" y="42876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In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357120" y="3571920"/>
            <a:ext cx="173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6786720" y="1857240"/>
            <a:ext cx="173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9 CuadroTexto"/>
          <p:cNvSpPr/>
          <p:nvPr/>
        </p:nvSpPr>
        <p:spPr>
          <a:xfrm>
            <a:off x="5447880" y="214200"/>
            <a:ext cx="69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Fe 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Mn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Zn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0 CuadroTexto"/>
          <p:cNvSpPr/>
          <p:nvPr/>
        </p:nvSpPr>
        <p:spPr>
          <a:xfrm>
            <a:off x="4938120" y="392904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GRU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RO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1 CuadroTexto"/>
          <p:cNvSpPr/>
          <p:nvPr/>
        </p:nvSpPr>
        <p:spPr>
          <a:xfrm>
            <a:off x="5073840" y="314316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4 Cerrar llave"/>
          <p:cNvSpPr/>
          <p:nvPr/>
        </p:nvSpPr>
        <p:spPr>
          <a:xfrm>
            <a:off x="6215040" y="1500120"/>
            <a:ext cx="285840" cy="10000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19 Conector recto de flecha"/>
          <p:cNvCxnSpPr>
            <a:stCxn id="247" idx="3"/>
          </p:cNvCxnSpPr>
          <p:nvPr/>
        </p:nvCxnSpPr>
        <p:spPr>
          <a:xfrm flipV="1">
            <a:off x="2090880" y="3285720"/>
            <a:ext cx="552960" cy="48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21 Conector recto de flecha"/>
          <p:cNvCxnSpPr>
            <a:stCxn id="247" idx="3"/>
          </p:cNvCxnSpPr>
          <p:nvPr/>
        </p:nvCxnSpPr>
        <p:spPr>
          <a:xfrm>
            <a:off x="2090520" y="3771720"/>
            <a:ext cx="410040" cy="586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Text Box 17"/>
          <p:cNvSpPr/>
          <p:nvPr/>
        </p:nvSpPr>
        <p:spPr>
          <a:xfrm>
            <a:off x="214200" y="5500800"/>
            <a:ext cx="173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24 Conector recto de flecha"/>
          <p:cNvCxnSpPr/>
          <p:nvPr/>
        </p:nvCxnSpPr>
        <p:spPr>
          <a:xfrm flipV="1">
            <a:off x="1999800" y="5571360"/>
            <a:ext cx="715320" cy="15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26 Conector recto de flecha"/>
          <p:cNvCxnSpPr/>
          <p:nvPr/>
        </p:nvCxnSpPr>
        <p:spPr>
          <a:xfrm>
            <a:off x="1999800" y="5786280"/>
            <a:ext cx="71532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Text Box 18"/>
          <p:cNvSpPr/>
          <p:nvPr/>
        </p:nvSpPr>
        <p:spPr>
          <a:xfrm>
            <a:off x="6429240" y="4929120"/>
            <a:ext cx="27147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portadores de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6429240" y="5929200"/>
            <a:ext cx="278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portadores de electrones y pro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8 Cerrar llave"/>
          <p:cNvSpPr/>
          <p:nvPr/>
        </p:nvSpPr>
        <p:spPr>
          <a:xfrm>
            <a:off x="6215040" y="285840"/>
            <a:ext cx="285840" cy="10000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6715080" y="57168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METALO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41 Conector recto de flecha"/>
          <p:cNvCxnSpPr/>
          <p:nvPr/>
        </p:nvCxnSpPr>
        <p:spPr>
          <a:xfrm>
            <a:off x="3642840" y="3414600"/>
            <a:ext cx="135828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44 Conector recto de flecha"/>
          <p:cNvCxnSpPr/>
          <p:nvPr/>
        </p:nvCxnSpPr>
        <p:spPr>
          <a:xfrm>
            <a:off x="3642840" y="4143240"/>
            <a:ext cx="135828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45 Conector recto de flecha"/>
          <p:cNvCxnSpPr/>
          <p:nvPr/>
        </p:nvCxnSpPr>
        <p:spPr>
          <a:xfrm flipV="1">
            <a:off x="2428920" y="713520"/>
            <a:ext cx="71496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46 Conector recto de flecha"/>
          <p:cNvCxnSpPr/>
          <p:nvPr/>
        </p:nvCxnSpPr>
        <p:spPr>
          <a:xfrm>
            <a:off x="2428560" y="1285560"/>
            <a:ext cx="5720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52 CuadroTexto"/>
          <p:cNvSpPr/>
          <p:nvPr/>
        </p:nvSpPr>
        <p:spPr>
          <a:xfrm>
            <a:off x="2785320" y="5286240"/>
            <a:ext cx="157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3 CuadroTexto"/>
          <p:cNvSpPr/>
          <p:nvPr/>
        </p:nvSpPr>
        <p:spPr>
          <a:xfrm>
            <a:off x="2724840" y="5958000"/>
            <a:ext cx="203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NUCLEÓ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5 Abrir llave"/>
          <p:cNvSpPr/>
          <p:nvPr/>
        </p:nvSpPr>
        <p:spPr>
          <a:xfrm>
            <a:off x="5072040" y="28584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56 Abrir llave"/>
          <p:cNvSpPr/>
          <p:nvPr/>
        </p:nvSpPr>
        <p:spPr>
          <a:xfrm>
            <a:off x="4572000" y="5000760"/>
            <a:ext cx="285840" cy="785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520"/>
              <a:gd name="textAreaBottom" fmla="*/ 7783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57 Abrir llave"/>
          <p:cNvSpPr/>
          <p:nvPr/>
        </p:nvSpPr>
        <p:spPr>
          <a:xfrm>
            <a:off x="4857840" y="5857920"/>
            <a:ext cx="285840" cy="928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8 CuadroTexto"/>
          <p:cNvSpPr/>
          <p:nvPr/>
        </p:nvSpPr>
        <p:spPr>
          <a:xfrm>
            <a:off x="4793760" y="492912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ridoxal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9 CuadroTexto"/>
          <p:cNvSpPr/>
          <p:nvPr/>
        </p:nvSpPr>
        <p:spPr>
          <a:xfrm>
            <a:off x="5076720" y="59292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63 Cerrar llave"/>
          <p:cNvSpPr/>
          <p:nvPr/>
        </p:nvSpPr>
        <p:spPr>
          <a:xfrm>
            <a:off x="6143760" y="5000760"/>
            <a:ext cx="285480" cy="857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857160"/>
              <a:gd name="textAreaBottom" fmla="*/ 849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4 Cerrar llave"/>
          <p:cNvSpPr/>
          <p:nvPr/>
        </p:nvSpPr>
        <p:spPr>
          <a:xfrm>
            <a:off x="6143760" y="5929200"/>
            <a:ext cx="285480" cy="85752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857520"/>
              <a:gd name="textAreaBottom" fmla="*/ 850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OENZIMAS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 -  VITAMIN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72"/>
          <p:cNvGrpSpPr/>
          <p:nvPr/>
        </p:nvGrpSpPr>
        <p:grpSpPr>
          <a:xfrm>
            <a:off x="826920" y="1413000"/>
            <a:ext cx="7994880" cy="439560"/>
            <a:chOff x="826920" y="1413000"/>
            <a:chExt cx="7994880" cy="439560"/>
          </a:xfrm>
        </p:grpSpPr>
        <p:sp>
          <p:nvSpPr>
            <p:cNvPr id="280" name="Text Box 30"/>
            <p:cNvSpPr/>
            <p:nvPr/>
          </p:nvSpPr>
          <p:spPr>
            <a:xfrm>
              <a:off x="826920" y="1484280"/>
              <a:ext cx="1224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ia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1"/>
            <p:cNvSpPr/>
            <p:nvPr/>
          </p:nvSpPr>
          <p:spPr>
            <a:xfrm>
              <a:off x="2700360" y="1484280"/>
              <a:ext cx="1511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, N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2"/>
            <p:cNvSpPr/>
            <p:nvPr/>
          </p:nvSpPr>
          <p:spPr>
            <a:xfrm>
              <a:off x="4716360" y="1484280"/>
              <a:ext cx="2159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6948360" y="177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7596360" y="1413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 G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234000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5"/>
            <p:cNvSpPr/>
            <p:nvPr/>
          </p:nvSpPr>
          <p:spPr>
            <a:xfrm>
              <a:off x="428472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395280" y="2357280"/>
            <a:ext cx="8353440" cy="370800"/>
            <a:chOff x="395280" y="2357280"/>
            <a:chExt cx="8353440" cy="370800"/>
          </a:xfrm>
        </p:grpSpPr>
        <p:sp>
          <p:nvSpPr>
            <p:cNvPr id="288" name="Text Box 14"/>
            <p:cNvSpPr/>
            <p:nvPr/>
          </p:nvSpPr>
          <p:spPr>
            <a:xfrm>
              <a:off x="395280" y="2357280"/>
              <a:ext cx="208764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Riboflavina (Vit.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, F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74"/>
          <p:cNvGrpSpPr/>
          <p:nvPr/>
        </p:nvGrpSpPr>
        <p:grpSpPr>
          <a:xfrm>
            <a:off x="539640" y="3078000"/>
            <a:ext cx="8353440" cy="370800"/>
            <a:chOff x="539640" y="3078000"/>
            <a:chExt cx="8353440" cy="370800"/>
          </a:xfrm>
        </p:grpSpPr>
        <p:sp>
          <p:nvSpPr>
            <p:cNvPr id="296" name="Text Box 8"/>
            <p:cNvSpPr/>
            <p:nvPr/>
          </p:nvSpPr>
          <p:spPr>
            <a:xfrm>
              <a:off x="539640" y="3078000"/>
              <a:ext cx="180036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iamina (Vit. 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843280" y="3078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4859280" y="30780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6877080" y="32936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7667640" y="3078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,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8"/>
            <p:cNvSpPr/>
            <p:nvPr/>
          </p:nvSpPr>
          <p:spPr>
            <a:xfrm>
              <a:off x="2411280" y="3222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9"/>
            <p:cNvSpPr/>
            <p:nvPr/>
          </p:nvSpPr>
          <p:spPr>
            <a:xfrm>
              <a:off x="4356000" y="3293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6"/>
          <p:cNvGrpSpPr/>
          <p:nvPr/>
        </p:nvGrpSpPr>
        <p:grpSpPr>
          <a:xfrm>
            <a:off x="539640" y="4292640"/>
            <a:ext cx="8352000" cy="642600"/>
            <a:chOff x="539640" y="4292640"/>
            <a:chExt cx="8352000" cy="642600"/>
          </a:xfrm>
        </p:grpSpPr>
        <p:sp>
          <p:nvSpPr>
            <p:cNvPr id="304" name="Text Box 40"/>
            <p:cNvSpPr/>
            <p:nvPr/>
          </p:nvSpPr>
          <p:spPr>
            <a:xfrm>
              <a:off x="539640" y="4437000"/>
              <a:ext cx="1656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fó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2916360" y="4508640"/>
              <a:ext cx="1439640" cy="405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TH</a:t>
              </a:r>
              <a:r>
                <a:rPr b="1" lang="es-ES" sz="1800" spc="-1" strike="noStrike" baseline="-25000">
                  <a:solidFill>
                    <a:srgbClr val="ff505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2"/>
            <p:cNvSpPr/>
            <p:nvPr/>
          </p:nvSpPr>
          <p:spPr>
            <a:xfrm>
              <a:off x="4859280" y="4292640"/>
              <a:ext cx="2158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   monocarbon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7524720" y="4292640"/>
              <a:ext cx="1366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Ser-Tre Deshidr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7093080" y="45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450072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234000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78"/>
          <p:cNvGrpSpPr/>
          <p:nvPr/>
        </p:nvGrpSpPr>
        <p:grpSpPr>
          <a:xfrm>
            <a:off x="611280" y="6021360"/>
            <a:ext cx="7993080" cy="642600"/>
            <a:chOff x="611280" y="6021360"/>
            <a:chExt cx="7993080" cy="642600"/>
          </a:xfrm>
        </p:grpSpPr>
        <p:sp>
          <p:nvSpPr>
            <p:cNvPr id="312" name="Text Box 36"/>
            <p:cNvSpPr/>
            <p:nvPr/>
          </p:nvSpPr>
          <p:spPr>
            <a:xfrm>
              <a:off x="611280" y="6093000"/>
              <a:ext cx="16570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8"/>
            <p:cNvSpPr/>
            <p:nvPr/>
          </p:nvSpPr>
          <p:spPr>
            <a:xfrm>
              <a:off x="2916360" y="6093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9"/>
            <p:cNvSpPr/>
            <p:nvPr/>
          </p:nvSpPr>
          <p:spPr>
            <a:xfrm>
              <a:off x="4932360" y="602136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0"/>
            <p:cNvSpPr/>
            <p:nvPr/>
          </p:nvSpPr>
          <p:spPr>
            <a:xfrm>
              <a:off x="6948360" y="638172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1"/>
            <p:cNvSpPr/>
            <p:nvPr/>
          </p:nvSpPr>
          <p:spPr>
            <a:xfrm>
              <a:off x="7812000" y="6165720"/>
              <a:ext cx="792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2"/>
            <p:cNvSpPr/>
            <p:nvPr/>
          </p:nvSpPr>
          <p:spPr>
            <a:xfrm>
              <a:off x="2484360" y="6237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4"/>
            <p:cNvSpPr/>
            <p:nvPr/>
          </p:nvSpPr>
          <p:spPr>
            <a:xfrm>
              <a:off x="4572000" y="630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7"/>
          <p:cNvGrpSpPr/>
          <p:nvPr/>
        </p:nvGrpSpPr>
        <p:grpSpPr>
          <a:xfrm>
            <a:off x="539640" y="5157720"/>
            <a:ext cx="8352000" cy="642600"/>
            <a:chOff x="539640" y="5157720"/>
            <a:chExt cx="8352000" cy="642600"/>
          </a:xfrm>
        </p:grpSpPr>
        <p:sp>
          <p:nvSpPr>
            <p:cNvPr id="320" name="Text Box 20"/>
            <p:cNvSpPr/>
            <p:nvPr/>
          </p:nvSpPr>
          <p:spPr>
            <a:xfrm>
              <a:off x="539640" y="5229360"/>
              <a:ext cx="172872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Piridoxina (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1"/>
            <p:cNvSpPr/>
            <p:nvPr/>
          </p:nvSpPr>
          <p:spPr>
            <a:xfrm>
              <a:off x="2916360" y="5229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-piridox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4932360" y="5157720"/>
              <a:ext cx="2016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Transferencia grupos ami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7451640" y="5157720"/>
              <a:ext cx="1440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ransam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7020000" y="551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1"/>
            <p:cNvSpPr/>
            <p:nvPr/>
          </p:nvSpPr>
          <p:spPr>
            <a:xfrm>
              <a:off x="2340000" y="5373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5"/>
            <p:cNvSpPr/>
            <p:nvPr/>
          </p:nvSpPr>
          <p:spPr>
            <a:xfrm>
              <a:off x="4427640" y="5445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5"/>
          <p:cNvGrpSpPr/>
          <p:nvPr/>
        </p:nvGrpSpPr>
        <p:grpSpPr>
          <a:xfrm>
            <a:off x="395280" y="3654360"/>
            <a:ext cx="8353440" cy="511200"/>
            <a:chOff x="395280" y="3654360"/>
            <a:chExt cx="8353440" cy="511200"/>
          </a:xfrm>
        </p:grpSpPr>
        <p:sp>
          <p:nvSpPr>
            <p:cNvPr id="328" name="Text Box 47"/>
            <p:cNvSpPr/>
            <p:nvPr/>
          </p:nvSpPr>
          <p:spPr>
            <a:xfrm>
              <a:off x="395280" y="3797280"/>
              <a:ext cx="2232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9"/>
            <p:cNvSpPr/>
            <p:nvPr/>
          </p:nvSpPr>
          <p:spPr>
            <a:xfrm>
              <a:off x="2916360" y="379728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2"/>
            <p:cNvSpPr/>
            <p:nvPr/>
          </p:nvSpPr>
          <p:spPr>
            <a:xfrm>
              <a:off x="4932360" y="379728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3"/>
            <p:cNvSpPr/>
            <p:nvPr/>
          </p:nvSpPr>
          <p:spPr>
            <a:xfrm>
              <a:off x="6948360" y="3941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6"/>
            <p:cNvSpPr/>
            <p:nvPr/>
          </p:nvSpPr>
          <p:spPr>
            <a:xfrm>
              <a:off x="4572000" y="4014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7"/>
            <p:cNvSpPr/>
            <p:nvPr/>
          </p:nvSpPr>
          <p:spPr>
            <a:xfrm>
              <a:off x="2627280" y="401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68"/>
            <p:cNvSpPr/>
            <p:nvPr/>
          </p:nvSpPr>
          <p:spPr>
            <a:xfrm>
              <a:off x="7740720" y="365436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984807"/>
                </a:solidFill>
                <a:latin typeface="Calibri"/>
              </a:rPr>
              <a:t>Enzimas que requieren</a:t>
            </a: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Iones Metálicos como COFACTORES</a:t>
            </a:r>
            <a:br>
              <a:rPr sz="29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(METALOENZIM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5080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3500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5929200" y="3068640"/>
            <a:ext cx="1008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571680" y="4076640"/>
            <a:ext cx="252072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3500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600084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COMPARTIMENTALIZACION: Diferente localización dentro de la célula 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(Enzimas mitocondriales, liosomales, citosólicas, de membran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ISTEMAS MULTIENZIMATICOS: Enzimas relacionadas, ordenadas espacialmente en una secuencia de reacciones (Ej: Cadena respiratoria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ENZIMAS MULTIFUNCIONALES: Una enzima que presenta distintos sitios catalíticos que catalizan deferentes reacciones (Ej: Acido gras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00000"/>
                </a:solidFill>
                <a:latin typeface="Calibri"/>
              </a:rPr>
              <a:t>DISTRIBUCIÓN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Rectángulo"/>
          <p:cNvSpPr/>
          <p:nvPr/>
        </p:nvSpPr>
        <p:spPr>
          <a:xfrm>
            <a:off x="571680" y="2142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214200" y="2643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500040" y="571680"/>
            <a:ext cx="785808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Tema 1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de los nutrientes y otros componentes dietéticos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abolismo y catabolismo. Vías, ciclos y cascadas metabólicas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Enzimas.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racteres generales. Nomenclatura y clasificación. Coenzimas. Cinética enzimática. Factores que afectan la actividad enzimática: temperatura, pH, concentración de enzima y concentración de sustrato. Ecuación de Michaelis-Menten. Inhibición de enzimas, competitiva y no competitiva. Regulación enzimática: compartimentalización, enzimas alostéricas, modificación por unión covalente. Isoenzimas. 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Qué so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NZIM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son macromoléculas que tienen la capacidad de AUMENTAR LA VELOCIDAD de las reacciones, por ello se denominan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agente capaz de acelerar una reacción química, sin formar parte de los productos formados, ni desgastarse en el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CuadroTexto"/>
          <p:cNvSpPr/>
          <p:nvPr/>
        </p:nvSpPr>
        <p:spPr>
          <a:xfrm>
            <a:off x="500040" y="928800"/>
            <a:ext cx="8286840" cy="4480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PROTEÍN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 la excepción de un pequeño grupo de moléculas de RNA catalítico, llamadas </a:t>
            </a:r>
            <a:r>
              <a:rPr b="1" lang="es-AR" sz="3200" spc="-1" strike="noStrike">
                <a:solidFill>
                  <a:srgbClr val="00b050"/>
                </a:solidFill>
                <a:latin typeface="Arial"/>
              </a:rPr>
              <a:t>ribozimas.</a:t>
            </a:r>
            <a:r>
              <a:rPr b="0" lang="es-AR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actividad catalítica depende de la integridad de su conformación prote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475920" y="214200"/>
            <a:ext cx="83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Cuál es la naturaleza química de las Enzi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480" y="829800"/>
            <a:ext cx="8643960" cy="48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Las enzimas deben ser sintetizadas correctamente, con las estructuras proteicas: primaria, secundaria, terciaria y cuaternaria si la tuv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0099"/>
                </a:solidFill>
                <a:latin typeface="Arial"/>
                <a:ea typeface="Arial"/>
              </a:rPr>
              <a:t>Cualquier alteración de la síntesis de estas proteínas puede llevar a una patolog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990000"/>
                </a:solidFill>
                <a:latin typeface="Arial"/>
                <a:ea typeface="Arial"/>
              </a:rPr>
              <a:t>A veces estas alteraciones puede solucionarse con cambios en la dieta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sustancia sobre las cuales actúan se denominan </a:t>
            </a:r>
            <a:r>
              <a:rPr b="0" lang="es-ES" sz="3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STR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285840" y="1928880"/>
            <a:ext cx="8572320" cy="3229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Transformación (síntesis) de moléculas de nutrientes simples en moléculas mas complejas, y viceversa (degradació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Extracción de energía desde combustibles o compuestos degradables por oxid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Polimerización de subunidades para formar macromolécu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Qué funciones tiene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85640" y="1142640"/>
            <a:ext cx="8229600" cy="4786200"/>
          </a:xfrm>
          <a:prstGeom prst="rect">
            <a:avLst/>
          </a:prstGeom>
          <a:solidFill>
            <a:srgbClr val="d9d9d9"/>
          </a:solid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Ejemplos de transformacione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mediadas por Enzim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857160" y="2575080"/>
            <a:ext cx="144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785880" y="343836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785880" y="437508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513160" y="264636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162240" y="3149640"/>
            <a:ext cx="165600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962600" y="322272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000240" y="4807080"/>
            <a:ext cx="2394000" cy="693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6257880" y="4662360"/>
            <a:ext cx="223200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5465520" y="5022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5826240" y="2933640"/>
            <a:ext cx="2303280" cy="100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 flipH="1">
            <a:off x="5393880" y="2502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5249880" y="2214720"/>
            <a:ext cx="1728720" cy="50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6834240" y="3870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6329520" y="401472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7:57:39Z</dcterms:created>
  <dc:creator>ali y facu</dc:creator>
  <dc:description/>
  <dc:language>en-US</dc:language>
  <cp:lastModifiedBy>ali y facu</cp:lastModifiedBy>
  <dcterms:modified xsi:type="dcterms:W3CDTF">2015-08-14T06:58:01Z</dcterms:modified>
  <cp:revision>75</cp:revision>
  <dc:subject/>
  <dc:title>Diapositiva 1</dc:title>
</cp:coreProperties>
</file>